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D503-FAC4-40C7-8520-912CF990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6CEE-A7C0-4E72-AC6C-516B0556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62B4-A082-4F32-A6E7-588B592D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5F0D-810A-4B2E-9BDC-87C98162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3C98-0B14-40FF-A39E-FAC29E97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286E-9032-42EB-BFC9-934C61A3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0CF5-88FE-420F-8266-85FFBB8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0F8C-9AC9-41B2-9E67-2E1063B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8E59-7188-473A-A732-EBF1349A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FE2E-EAD3-442F-BC53-7F084116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D39E-FDBF-4139-944C-C859041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6121-A818-41F0-8DC8-E3811F73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D754-664E-41AB-B14D-9E47A52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9E7-FDC2-48AA-BBB4-50722C1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6572-7FBA-4CE3-B79B-12358B1D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C1DD-0963-4AD2-9642-22DE7B1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4251-F2FA-4274-9148-D7AFAEEA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9E55-FD55-4F61-8E9D-FA36DCF1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4A96-D7DA-4C0B-A3BF-A88FB063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A767-311B-4162-9AB0-4D5E2C16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9491-2540-4CB3-A63D-ADE09AFE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25B8-0A46-4232-8E37-3461539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4608-15A3-48A5-B48D-F36C30B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4300-D09C-44D0-806C-8BBCA3F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8C1E-3435-4A76-9B08-4EB05937C2F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C621-8B58-415F-84D4-41DEC2D94C5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datbáziskezelé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álformá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alizálá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él: a tárolási és karbantartási káosz megszüntetése – veszteségmente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alizálás – normálforma dekompozíci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kedvezőtlen normálformájú egyedet lebontjuk több kívánt normálformájú egyed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utósbol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1378080"/>
                <a:gridCol w="1914480"/>
                <a:gridCol w="1830240"/>
                <a:gridCol w="1871640"/>
                <a:gridCol w="1235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katrész név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katrész 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ységá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rab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szzérté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eté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0. lép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egyenek a tulajdonságok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Á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NÉ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KÓ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Á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ÖÉ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EFI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következő relációt állítjuk össz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UTÓSBOLT {DÁT,ANÉV,AKÓD,EÁR,DB,ÖÉRT,BEFIZ}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Írjuk fel az adatbázist 1NF-b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064040"/>
        </p:xfrm>
        <a:graphic>
          <a:graphicData uri="http://schemas.openxmlformats.org/drawingml/2006/table">
            <a:tbl>
              <a:tblPr/>
              <a:tblGrid>
                <a:gridCol w="1176480"/>
                <a:gridCol w="1785960"/>
                <a:gridCol w="1081080"/>
                <a:gridCol w="1150920"/>
                <a:gridCol w="684000"/>
                <a:gridCol w="1174680"/>
                <a:gridCol w="117648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5e5ff"/>
                </a:solidFill>
                <a:latin typeface="Garamond"/>
              </a:rPr>
              <a:t>Az AUTÓSBOLT –ban fennálló anomáliá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1176480"/>
                <a:gridCol w="1785960"/>
                <a:gridCol w="1081080"/>
                <a:gridCol w="1150920"/>
                <a:gridCol w="684000"/>
                <a:gridCol w="1174680"/>
                <a:gridCol w="11764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771640" y="2133720"/>
            <a:ext cx="2376720" cy="1008000"/>
          </a:xfrm>
          <a:prstGeom prst="upArrow">
            <a:avLst>
              <a:gd name="adj1" fmla="val 48833"/>
              <a:gd name="adj2" fmla="val 4677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ővi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4508640"/>
            <a:ext cx="2376720" cy="1008000"/>
          </a:xfrm>
          <a:prstGeom prst="upArrow">
            <a:avLst>
              <a:gd name="adj1" fmla="val 48833"/>
              <a:gd name="adj2" fmla="val 4677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ódo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508640"/>
            <a:ext cx="1008000" cy="1800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őr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ulcs = {DÁT,AKÓD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1989000"/>
            <a:ext cx="3961080" cy="22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637000"/>
            <a:ext cx="1224000" cy="86508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637000"/>
            <a:ext cx="1224000" cy="86508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445000"/>
            <a:ext cx="266400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5445000"/>
            <a:ext cx="26636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  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653000"/>
            <a:ext cx="12240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429264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907640" y="3645000"/>
            <a:ext cx="129564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3500280"/>
            <a:ext cx="136836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ehát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másodlagos attribútumok nemcsak a kulcstól függnek, hanem annak részhalmazaitól is (részleges függősége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an benne tranzitív függősé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1000 FT a függ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felbontás sém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916280"/>
            <a:ext cx="2808360" cy="388908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429480" y="2458440"/>
            <a:ext cx="3890880" cy="280656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2700360" y="2205000"/>
            <a:ext cx="3457440" cy="3384720"/>
          </a:xfrm>
          <a:prstGeom prst="triangle">
            <a:avLst>
              <a:gd name="adj" fmla="val 4958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2349360"/>
            <a:ext cx="3456000" cy="100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                       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3860640"/>
            <a:ext cx="792000" cy="863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4365720"/>
            <a:ext cx="180000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4292640"/>
            <a:ext cx="180036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Felbontá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86900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APIF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6920" y="4869000"/>
            <a:ext cx="208728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AD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4869000"/>
            <a:ext cx="208728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KAT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2349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256536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349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NAPIFORG{</a:t>
            </a:r>
            <a:r>
              <a:rPr b="1" lang="hu-HU" sz="4000" spc="-1" strike="noStrike" u="sng">
                <a:solidFill>
                  <a:srgbClr val="e5e5ff"/>
                </a:solidFill>
                <a:uFillTx/>
                <a:latin typeface="Garamond"/>
              </a:rPr>
              <a:t>DÁT</a:t>
            </a: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,ÖÉRT,BEFIZ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1600200"/>
          <a:ext cx="6769080" cy="2692440"/>
        </p:xfrm>
        <a:graphic>
          <a:graphicData uri="http://schemas.openxmlformats.org/drawingml/2006/table">
            <a:tbl>
              <a:tblPr/>
              <a:tblGrid>
                <a:gridCol w="2016000"/>
                <a:gridCol w="2811600"/>
                <a:gridCol w="1941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79280" y="50846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a táblázat 2NF-ben van, de nincsen 3NF-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álformá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ormálforma: az egyed szerkezeti állapo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3213000"/>
          <a:ext cx="7859880" cy="2970360"/>
        </p:xfrm>
        <a:graphic>
          <a:graphicData uri="http://schemas.openxmlformats.org/drawingml/2006/table">
            <a:tbl>
              <a:tblPr/>
              <a:tblGrid>
                <a:gridCol w="2016360"/>
                <a:gridCol w="3529080"/>
                <a:gridCol w="2314440"/>
              </a:tblGrid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ontsuk fel két táblázat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1628640"/>
            <a:ext cx="172692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0560" y="486900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RBEV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55736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79736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E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2492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421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ÁRBEVÉTEL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DÁT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ÖÉRT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EFIZETÉS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ÖÉRT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BEFIZ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LKATRÉSZ{</a:t>
            </a:r>
            <a:r>
              <a:rPr b="1" lang="hu-HU" sz="4000" spc="-1" strike="noStrike" u="sng">
                <a:solidFill>
                  <a:srgbClr val="e5e5ff"/>
                </a:solidFill>
                <a:uFillTx/>
                <a:latin typeface="Garamond"/>
              </a:rPr>
              <a:t>AKÓD</a:t>
            </a: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,ANÉV,EÁR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314440"/>
                <a:gridCol w="317196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LADÁS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DÁT,AKÓD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DB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 négy táblázat mindegyike     3NF-ben v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maradtak a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szüntettük a redundás adattárolá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tüntettük a karbantartási anomáliák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adatmodell dokumentá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datbázis neve, célja, környez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iagram (a kapcsolatok ábrázolása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gyedek listája (miben mit tárolo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apcsolatok felsorolá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ekordleí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n tulajdonság szerep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Opcionalitás, egyedisé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Értékek,korlátozás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ulajdonságok (származtatá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z ÉTTEREM adatbázis 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normalizálá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rendszer ismerteté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étteremben különféle ételeket és italokat rendelhetünk, amelyeket bizonyos nyersanyagokból recept szerint készítenek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ogyasztás végén számla szerint fizetü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adatbázis létrehoz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ECEP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,tipus, tipnév,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, szüks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elnevezés,ár,rendmenny,érték,végösszeg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Lépés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tasorok készít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ulcsok meghatároz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alizál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álformá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álformá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0.normáforma (0NF vagy N1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.normálforma (1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2.normálforma (2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3.normálforma (3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RECEPT kulcsa =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{azonositó,akód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gazak az alábbi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,akód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üksmenny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elnevezés,ár,tipus,tip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kód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név,egysár,mértegys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SZÁMLA kulcsa =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{szlaszám, azonosító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gazak az alábbi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laszám,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rendmenny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laszám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dátum,végösszeg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elnevezés,ár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egjegyzés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rték = ár * rendmen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zámolható, nem tárolju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égösszeg =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  <a:ea typeface="Arial"/>
              </a:rPr>
              <a:t>Σ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  <a:ea typeface="Arial"/>
              </a:rPr>
              <a:t> érté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  <a:ea typeface="Arial"/>
              </a:rPr>
              <a:t>Számlaszámra összegez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  <a:ea typeface="Arial"/>
              </a:rPr>
              <a:t>Számolható, de kerekítve tároljuk a pénzügyi mozgáso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teljes függőségek alapjá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RECEPT 3 relációra boml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ÁMLA 3 relációra boml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1 reláció közös, hoszen 1:1 kapcsolatban állnak egymáss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reláció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,tipus, tipnév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NYAG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ECEP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,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szüks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FEJ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végösszeg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TÉTE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,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rend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zel 2NF –ra hoztunk mindegyik tábl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 van tranzitív függés az ÉTLAP –b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us} és {tipus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us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öbbi tábla 3NF –ban v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2276640"/>
            <a:ext cx="0" cy="86508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 tranzitív függőség megszüntetés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 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elnevezés, ár, tipu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AJTA 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tipus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tipnév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3284640"/>
            <a:ext cx="3961080" cy="1800000"/>
          </a:xfrm>
          <a:prstGeom prst="wedgeEllipseCallout">
            <a:avLst>
              <a:gd name="adj1" fmla="val -69000"/>
              <a:gd name="adj2" fmla="val -759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ótárfájl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Kapcsolati ábr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nyíl az N:1 kapcsolatot jelen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964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AJ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né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Y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s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érteg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üksmen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7236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AT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ndmen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T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nev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AF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össz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1052640"/>
            <a:ext cx="11509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907920"/>
            <a:ext cx="1295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2565360"/>
            <a:ext cx="79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1052640"/>
            <a:ext cx="1368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414972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4221000"/>
            <a:ext cx="12970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4581360"/>
            <a:ext cx="122400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4292640"/>
            <a:ext cx="122400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88000" y="4581360"/>
            <a:ext cx="15130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1628640"/>
            <a:ext cx="1151280" cy="432000"/>
          </a:xfrm>
          <a:prstGeom prst="leftArrow">
            <a:avLst>
              <a:gd name="adj1" fmla="val 50000"/>
              <a:gd name="adj2" fmla="val 6662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4941720"/>
            <a:ext cx="1079640" cy="432000"/>
          </a:xfrm>
          <a:prstGeom prst="leftArrow">
            <a:avLst>
              <a:gd name="adj1" fmla="val 50000"/>
              <a:gd name="adj2" fmla="val 6247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506800">
            <a:off x="4716000" y="3284640"/>
            <a:ext cx="2160720" cy="504720"/>
          </a:xfrm>
          <a:prstGeom prst="leftArrow">
            <a:avLst>
              <a:gd name="adj1" fmla="val 50000"/>
              <a:gd name="adj2" fmla="val 10702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0720" y="2924280"/>
            <a:ext cx="358560" cy="1081080"/>
          </a:xfrm>
          <a:prstGeom prst="upArrow">
            <a:avLst>
              <a:gd name="adj1" fmla="val 50000"/>
              <a:gd name="adj2" fmla="val 7537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2852640"/>
            <a:ext cx="431640" cy="1152720"/>
          </a:xfrm>
          <a:prstGeom prst="upArrow">
            <a:avLst>
              <a:gd name="adj1" fmla="val 50000"/>
              <a:gd name="adj2" fmla="val 6676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echnikai adat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ÉTLAP </a:t>
            </a:r>
            <a:r>
              <a:rPr b="1" i="1" lang="hu-HU" sz="3200" spc="-1" strike="noStrike">
                <a:solidFill>
                  <a:srgbClr val="ffffff"/>
                </a:solidFill>
                <a:latin typeface="Garamond"/>
              </a:rPr>
              <a:t>van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logikai tipusú tulajdonsá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ÁMLAFEJ </a:t>
            </a:r>
            <a:r>
              <a:rPr b="1" i="1" lang="hu-HU" sz="3200" spc="-1" strike="noStrike">
                <a:solidFill>
                  <a:srgbClr val="ffffff"/>
                </a:solidFill>
                <a:latin typeface="Garamond"/>
              </a:rPr>
              <a:t>kifizet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logikai tipusú tulajdonsá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0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 reláció 0. normálformában van, ha létezik olyan másodlagos attribútum, amely a kulcstól funkcionálisan függetl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áblázat ismétlödő ismereteket tartalma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3068640"/>
          <a:ext cx="8002440" cy="2689200"/>
        </p:xfrm>
        <a:graphic>
          <a:graphicData uri="http://schemas.openxmlformats.org/drawingml/2006/table">
            <a:tbl>
              <a:tblPr/>
              <a:tblGrid>
                <a:gridCol w="2054160"/>
                <a:gridCol w="3592440"/>
                <a:gridCol w="235584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050920" y="3716280"/>
            <a:ext cx="4392720" cy="1441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ővithetőség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SZERZÉS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,dátu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beár,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NYAG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, készlet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EMÉLY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kód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eve,poszt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OSZTÁS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poszt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jelenté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SAPA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dátum,kód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ővithetősé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{dátum,sorszám}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{kód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hol a sorszám az asztal egyedi azonosító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 igaz viszont, hogy a dátum és a kódszám meghatározná a sorszám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új egyed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SZTA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or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hányfő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ISZOLGÁ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dátum,sor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kód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ért a számlafej így módos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FEJ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végösszeg,sor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Áttekintő kapcsolati áb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4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AJ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OS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EMÉ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F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T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SAP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600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SZO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SZ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T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Y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0400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SZE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116000" y="2781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116000" y="1341000"/>
            <a:ext cx="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834920" y="2565360"/>
            <a:ext cx="865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565360"/>
            <a:ext cx="72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84360" y="256536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5280" y="4149720"/>
            <a:ext cx="93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581360"/>
            <a:ext cx="0" cy="93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763640" y="566100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0560" y="4869000"/>
            <a:ext cx="36036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580536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211640" y="4797000"/>
            <a:ext cx="36036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08720" y="4508280"/>
            <a:ext cx="0" cy="93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84720" y="4149720"/>
            <a:ext cx="935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 RELÁCIÓS ALGEBR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elációs adatbázis kezelő nyelvek lekérdezési lehetősé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elációs algebra műveletein alapszi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ülönbsé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 szorz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ojek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zelekc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Hánya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etsz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Összekapcsolá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ermészetes összekapcsolá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(jele :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yen R és S két n-ed fokú relác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juk az R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 S  szintén n-ed fokú relá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orai vagy az R –nek vagy az S –nek vagy mindkettőnek elem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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ülünbség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jele : -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egyen R és S két n-ed fokú reláci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 - S  különbsége szintén n-ed fokú reláci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orai vagy az R –nek elemei de az S –nek n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-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 –szorzat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(jele: x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yen R n –ed , S m –ed fokú relá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-szorzatuk az az (n+m) –ed fokú Rx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n elem első részét az R –ből, második részét pedig az S –ből vesszü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2000" y="4005360"/>
            <a:ext cx="2808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xS               A B C D E 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b  c  f 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e  f  c 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1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1. normálformájú, ha minden másodlagos tulajdonság funkiconálisan függ a kulcstó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ázat minden sorában pontosan egy attribútumérték v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előző példa 1NF-be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628640"/>
          <a:ext cx="8229600" cy="3384720"/>
        </p:xfrm>
        <a:graphic>
          <a:graphicData uri="http://schemas.openxmlformats.org/drawingml/2006/table">
            <a:tbl>
              <a:tblPr/>
              <a:tblGrid>
                <a:gridCol w="2111400"/>
                <a:gridCol w="3693960"/>
                <a:gridCol w="2424240"/>
              </a:tblGrid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2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2. normálformájú, ha 1-es normálformában van, és minden másodlagos attribútuma a reláció bármely kulcsától teljesen füg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jegyzés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sz R kulcsa egyetlen attribútumból áll, akkor 2NF típus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nincsen R-ben másodlagos attribútum, akkor 2NF típus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3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3. normálformájú, ha 2-es normáformában van, és egyetlen másodlagos attribútuma sem függ tranzitíven valamely kulcstó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1. normálformájú reláció Boyce-Codd normálformájú (BCNF típusú), ha minden generátora egyben kulcs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yjegyz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supakulcs es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ÜGYELET {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Garamond"/>
              </a:rPr>
              <a:t>ki,mikor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}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öbb kulcsjelölt es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ZÁMLATÉTEL {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Garamond"/>
              </a:rPr>
              <a:t>szlaszám,sorszám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,cikkszám,mennyi}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07:40:55Z</dcterms:created>
  <dc:creator>Nagymáté Péter</dc:creator>
  <dc:description/>
  <dc:language>en-US</dc:language>
  <cp:lastModifiedBy>Nagymáté Péter</cp:lastModifiedBy>
  <dcterms:modified xsi:type="dcterms:W3CDTF">2003-12-11T13:07:28Z</dcterms:modified>
  <cp:revision>28</cp:revision>
  <dc:subject/>
  <dc:title>Adatbáziskezelés </dc:title>
</cp:coreProperties>
</file>